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A59C-F561-4F17-BC99-01ABD584F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16E9-2FD5-4A40-BFF7-142C44B3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1C5F5-010A-427C-A67B-F5EB88A3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1D64B5-087A-4F78-8E99-4ACA382D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6D116-CB39-4E10-A907-CCF40B4A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772C78-93C1-49AE-B60A-E0771FFC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EEED04-2E82-4E36-9093-8EA072A2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F2C780-E44F-4BD1-AD6F-F8A4A636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ACEF26-D881-45C8-86AB-F9B8C194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8D170-BBB6-482C-867D-265B45C27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8D499-6F9C-4504-B715-AA468449A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DC7905-8A3E-42E5-8936-4F3B3A186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A737-0ED5-4F37-A0C5-004B65CB8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D73678-E891-490D-AF71-99ABE33F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B590B-3D06-4E88-89ED-A27B8865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61F910-13EF-4FFF-8C89-9514054B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E57B7-08FB-46B2-A5DE-D1B740B7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2ED79-4531-4911-929F-2D867A94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01798-A269-467F-8A16-2770C4A9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001F4B-E258-4F62-A3F9-C7887B8F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EE4C2D-4C34-419C-A368-E0C03651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588797-B40A-4062-A2BA-83D02998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7222C-A7DA-4995-8C1A-2C4678169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4774-AAE0-455F-B80E-19CDBA969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0D666-7A9F-488F-811E-D8AEC54B7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EAD85-B3B0-4743-A2C3-4DD379E13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28394-534E-4BB6-A76D-0C7CF51E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403C0-554A-4A33-A45B-A4772767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868DA-8D61-487F-A9A8-B0AFD4B7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EB248-F068-4987-9769-B53B64B5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1D37E-358D-488D-AE77-C4DF2D3C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5B0B1-1C03-475E-9D8E-83142B84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A4727-5323-44EF-9B20-E2A1497A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AAF2F-CFE5-4F6E-B8CA-3C04A102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330A-5865-4114-9950-6D3643224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B1C4E-8D5B-4F5F-85AE-0D147199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99FAF-8881-4A7C-892F-FF445BB6C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34CA6-125F-4887-B640-884016A1D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546D58-F994-4252-BD59-D683FF971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779A47-8701-472C-9F24-AC511D17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9A4BA9-E888-4485-BBB7-524FB037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0FD202-5186-44C0-ACDB-2C854F26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CA97E9-F4FB-4458-8968-7572B2CD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056C0C-CFEF-4EAD-9BE6-70A977C1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AA2FB8-E8D0-47E9-897A-E0615BDE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9D6B-9C04-4A36-A4C4-501AC708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322EF4-3B56-4D31-BABC-2365A734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3B27FD-9F77-4353-AE19-1E02DEED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223611-7FEB-487A-ADE2-33E8C481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847FFE-57C1-437E-98DF-BFA6D8FD1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200360-0DC7-49F1-A96D-5E2860E1B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654697-EE2D-4525-9C05-110CE623B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C8A184-24F4-496E-A610-2F361E5F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F366E9-8013-4925-B8A7-D4772661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9339C1-9EDD-495B-975A-C7BBC4A9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A75CDE-84EA-4785-803A-1C062AC1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58C8-9729-48F1-BF95-A035F4F9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752812-0443-4EC9-8549-8A1C0878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400FFF-9659-4FA2-BDF7-3B35FD04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325833-AA8D-413C-99FA-3A04D190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B35499-9151-4524-ABB9-93C73935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A38A2E-46A8-47A9-A761-4FA0E3AF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9EA475-15AC-43CB-8A9C-C91BFBA8F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DD9DC6-E783-4B5A-ABC6-0FB1BAD6D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3BC393-8E89-48F2-80AB-F819DC065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4730FB-2E52-4490-82CC-56FBF23E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5052C2-5234-45F1-85F9-20609E29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F2A2-BA7D-4EF4-AE60-8EAAB2B9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04E6D8-2AC2-4047-9D6D-456EB6B6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FF3B2D-E872-42C8-88AD-A74C1CE5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717359-5415-44AE-973A-B7EE7F3D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EFFBA3-A052-4E20-A1FD-2A0B2D66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FECA66-A829-4E05-93A2-0F52B345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7487C8-4882-4BAD-B495-23F031A1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0DE3C2-4492-4E14-9D64-93CBFEC0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B96F51-A8A4-4A4C-A142-3C882AFA3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3F9037-99F4-4C32-8FD3-A010EC0A8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DFF265-A736-4DAF-AB34-6308334B1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D5C2-4237-404A-9A09-60D0D006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6C4965-6D6A-4960-956D-6AEC6650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27B8A9-E71E-41FE-A1DE-C8CFE05E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3EC57F-0231-4C71-9320-02DB9AD5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461D1E-56B5-4073-91FE-F4EB62DB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85B321-6679-4257-B61E-BEE99FD9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B05611-607A-4DF7-B5A2-4EAF45DB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23BDBC-1011-4EEB-A635-1B8B042E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F928E6-4061-485A-A310-5C0C7565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6851CE-14D7-40FF-926D-1F8CE956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B269D0-278E-4207-87B4-4B4B5288F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8941-FC8F-4108-BF22-BB561C23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5E222F-43B7-4B8B-A9E9-E8EAE8C80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B54FB9-4B86-4894-8F3B-58287C911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0F396A-A610-4CE8-B982-CDAC96C3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717BFB-3636-4DEB-905B-F4A80F68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F78887-2A1B-4DBA-BF6F-3C8BD06F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E70916-CFAA-4855-B1CB-A5FC7535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29066B-8A1C-4C7F-A24A-AF899F00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4FCCE7-0D96-4227-A060-8BA7C257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A79A28-715B-420D-B75B-3952524C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075974-074A-4213-9CC2-D4296EA3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FCBC-9384-4F70-9E3A-8B58BF89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6CD039-7ADE-4C53-80A4-45772CED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10603E-40F0-4962-9F84-FFB9E49B7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8810B6-A534-4D71-AEC5-3C35AFE89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4168CD-F7FA-491D-AA77-466225520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8980F2-7DDA-49A3-AAC7-65123055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D39D96-9AF3-4E8D-A97F-CE85E2DB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2E7B71-FA91-4FF8-93F8-79DB3FD9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E3DB1A-76C6-44B4-BF70-3CB9567C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0B7D29-351E-4880-8896-3ACC3696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044537-992B-48DD-9D1C-228B466A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023F-D7D7-48EC-86D2-2C0F8EB5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3ADF-B677-4E53-8EE6-5058F89A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2ED4F6-6A06-4F42-A91E-61B1D734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B55DC8-51F0-4BC9-9901-326F7764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09B89E-9F8B-4479-8B76-98312B07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E7C481-51FA-47B5-B2AE-7E4B651AC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8AE8AC-98C5-42A9-A9D8-C73F3D662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24AD15-131B-45CE-B35F-3F2054A63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11D0A2-E85E-437B-B501-376B7E42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3C263B-BC83-4380-B652-80BB970A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A86675-6CAC-45E0-BC0F-262DDCE8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54580E-C5D9-4EFC-9949-3EF5696F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C290-9AC7-4B25-A269-80B8F0AA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F690CC-1DAE-4EB3-8B38-01BAD528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C3A646-90C8-4EE7-A342-CBF69BAD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62D06C-92D7-4C67-94DE-1618EED0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9F8A88-099A-41DA-8F93-B58BAE1A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6454EE-55D8-4CC5-ADFB-2D8E0B86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A2949E-3AE7-49D0-BC75-54FB9E919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45890A-D1DF-4521-99FB-6AEFCBF84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F0CAAF-52EE-41D2-AD14-782228C8C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CAF16F-527F-4C0A-B873-41D66669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3E7081-DC13-451C-916B-A4788375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393F-CFBB-4264-9D76-94271902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EA797E-A08C-4526-B3B6-12C30331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A19F9F-C6E3-461B-AB66-1724D930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331AB2-6434-416C-AF15-10A6C326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265218-4124-4280-9B94-6FBB423B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8C648F-32D8-44BA-9F4A-C740052A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2FBD28-A92D-4A44-BE70-A359BFBA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5777DD-A85E-41B3-93FC-151AA575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69AEE2-FA21-4E92-93C5-9178814BC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3383E2-D9D8-4DAE-8C2E-29656F7E1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F5E09D-48F1-4019-BAED-8A5C45F02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C52D-40A0-42D3-9468-35725B71A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3BF2F2-CBDF-4B41-9887-F3F798B2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A5D85B-7094-49DE-B8F1-7CF1E234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6EEC32-631A-4E54-A73E-F67CBBA2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1681CA-FC99-4BB8-810C-7B6F6F4E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DD492D-41D5-4D69-91AD-95E33077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CB7CC2-3E47-41FC-B3B7-E3C41B39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7AA0A0-0031-4E0F-8045-E3A23588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F0D03F-396E-46F2-90F8-90228056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5B1A43-1E60-4B30-900B-96BBE446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E77B69-289D-4F94-9F89-CC976A634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D35B-F1F7-4AB3-93F4-2C1F1738F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4883C5-B49C-45E5-A956-F13DD9F54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F22CAB-D7C1-4B52-A87C-CB610C197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DF380E-9375-4F18-AE57-AB560038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77BB1F-D548-460A-8367-BB844AC0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6620E1-148F-421C-84C2-EA6DD100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92A88D-DE81-44A7-8473-3DBD7E77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31040C-FE51-471D-98DA-8E739277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A56A23-F703-4D41-A7C5-42637254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8BBF7D-8D87-49C7-A070-F36ECE3A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6E1C64-5595-4AC4-AC62-A0006261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7F786-CFFA-493E-91C7-D4440C326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39FB43-50C1-4CC0-9AEC-EF683B08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75BFDF-4C7D-4491-98B9-A4C489741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7F7C4C-199E-4280-BA41-0484C5595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F47430-1454-4688-8711-81BEB2CE8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50B93C-CE99-481D-911F-5AADD596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75AF18-3EC9-48CE-90E1-FFDC3904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DE332B-0377-45FA-8605-DFFCDA2B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14AB8D-5F78-4C99-B411-8AC57E3C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4C8A52-FA89-4507-B0E0-55E09667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4FC6F8-50DB-4AE7-A593-DCFDFE33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A5B1D-CC5A-4F62-B89D-B0D9D1FC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22EA7F-B4E9-4DC6-9CDB-2C5A863A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7B3540-3EAE-4473-9BFE-2333BF80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EC359C-C7EB-4047-9D34-AD380D06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66603A-ED78-48D0-BDD4-F4001EADF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D510F9-8DF5-44CF-A84B-E443FB875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7BA0C5-ECF4-4DCA-9D03-167806AE9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2651A1-532E-4E39-8E6E-770A9534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614B7F-B667-4D5F-BA72-99675B40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0D0DC1-C8CB-4698-9AEE-D8106E44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80CB8E-884D-4315-B9D2-D3E481C5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7B33F-A1C8-41A8-8002-3663BC6B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BEA9F8-E0BB-4D5A-BA4B-32AA4D23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32249C-5788-4ACE-83FD-07320E7D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0723FA-E419-438C-8E32-80EF82D1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BA10B2-D4A0-4F00-9B2C-96BAE519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46B461-2DDE-4068-BD72-1F01F5F3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F1A8C9-2783-41E3-9EE0-B962D0855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B3B209-7EDE-49C0-BB77-7BB354DBD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4165F6-F517-4130-8120-05F9F7C90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2C7389-318B-44CF-A62B-372A8C46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6DF5C2-C0D5-4264-86F6-4B6F873E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C1700-6541-46D7-BC6D-DFAFC8B7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5A7DE9-4ECD-4DEC-BC66-B983DFC0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87515A-D445-420F-B366-B5322802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AC7145-3F59-4A35-96B8-2F90F3C2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25E04F-1010-43E3-BC6A-B785FC39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F84748-A409-446A-A175-1342566D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392FB2-9655-435D-BC8F-3B431AD7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906EAB-2CA3-483F-A803-49D93AC0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0EC11B-70A6-4569-9203-CEF2C057C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3FFF72-25C8-4019-AE8C-C424653F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E7E4A2-AFCF-41CA-B0EB-B50B601E9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68F00-538A-486C-A7B7-F5EDE56E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3999514-62BE-411A-A37C-4C7BED2D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65C598-19EE-44ED-A942-A2247A4B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037E795-DAC9-4292-BFF8-5748D3D2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7EB23C6-96FB-4F72-BEE7-E4853717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175FD18-AFCB-49B1-B8E2-6F13508B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EB85899-8F22-4700-82C5-15D5CA59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F2C127-CDCA-432A-8142-9793B9D2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800CF16-1694-4A53-A34C-621B6F45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2B151D2-3BFD-48BA-B41C-D0C7F6D3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464698-9411-4935-BD90-53DF0C675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8FE7-4ABA-4007-880E-07D617D5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A0D78-2177-4E7B-B26B-383DFE5B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E6B82BB-F036-4DDE-94B9-7BD7CC2A1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4A004A0-6447-48CF-A94D-5D2B43C5D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5C5FEB-0AE5-4036-B0E1-2BC8C1B6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52B69DE-B954-4450-8670-6DB4FEF6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66E398A-57FB-4B30-A020-D38F9616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672C1D5-BAE9-44E4-915C-7C8A4A3F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62E106C-895E-4A4C-A0EE-792F33B4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F0E8F9-F523-493F-9E04-890F8AA1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89E8EC-9CA5-4E34-A899-E03E81B0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B5B612E-AEEA-4C4E-AEAE-74B663CE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C4D7B-BEBB-48DA-900E-5A0CB1BF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ECE2A2C-2C45-40B7-8F42-571E8BE2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90A189B-7600-43CD-8359-469E97D7A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E26410-5266-4938-8988-32A0F56EC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585145F-1333-4865-A358-9BAB3B30F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76BAD2D-5D4B-428C-8986-08565D80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D7F7BBA-6E09-4D36-8EDC-FD94C33F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00CD8A-B1F4-440A-ACC9-4433432D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9266DE3-BE05-4F2B-96D3-DC0D9DFB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9A7F11B-1A36-4BBD-BE3A-17B62994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527FFED-EE21-4303-A860-27B8F6FF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05838-FB31-478F-A2E1-AC4620F2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7FC363A-DCD4-48A7-B9F5-453875A8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15E6914-7684-4C42-87B6-E37E9BF3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AB40870-9AEC-4CB6-9857-2E008AC4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7AB22B-FFA9-4AAF-A996-165DB8DC5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457C994-3921-4EAE-A024-0518FB6FF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2D26272-971A-4778-A91C-EEC844862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4315991-3202-4B9D-875D-1B76BDBF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B4BE110-C2FC-4662-B15E-40931F41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079FF25-6BC3-47BE-9915-EAC49D50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A634EEC-53D0-4AF4-9BAF-2C8D633A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8F74C-55BB-4199-9B43-F3E39386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030B648-01AF-4A51-9616-E1814E65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22F1083-EAF3-4243-96A3-E3CB5EF3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2AB37D8-48D8-4471-A21B-32964522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C18C3F6-63C3-46A7-92CD-073E39DC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D81BB3C-EF77-49C6-9E3E-1CFADB64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A462012-150D-42E3-B404-4E8C47E8A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2AA0530-DC38-436B-91AD-33D6C205E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4B2BA77-B80B-4705-96D1-19FD1246B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9ED4F73-A988-4212-B245-6B7396CF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4F4304E-DE84-4912-BD0B-47467E49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5637B-9D56-4F60-96ED-4735FBE2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6845BF6-FE3E-4529-8DE9-349040EC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FD993AA-404F-44BD-B846-06D9837E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C4A03EA-284E-409E-9036-989B772E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097ED10-973B-4A48-9FD5-F984DF76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0A28E51-C95C-4ED2-9953-CB18AAF9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A4F2750-92EB-4873-BF13-15C41516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D9FE7B3-6FF7-4BAD-A808-3FE0E234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68BCAD4-9C15-40B9-999C-DC72DADF7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33C5496-E2B5-4701-94BD-66663F54E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F594944-3FE7-4024-A7BC-425238B30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718BA-6C62-4123-ADDC-490C73F93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3CECC3C-5101-4716-BC45-3787B088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A51F29E-D3DE-4CC4-8CEC-3D9B3846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06A2BCD-4AE3-4360-913B-E001905F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2758C88-0D86-41E2-A9C4-6F64FB11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852780D-86A3-4F6B-B771-7A5E9FA7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BA4399E-5D24-4062-B373-5AB0F113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9004D92-1720-4C0F-A249-7484B41A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8C7D7DB-D6F6-4BFF-9201-CC042ADF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6DCBC6F-8936-47B9-9126-88F0534C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22635AA-5077-4999-B0A0-3F6B91BB6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AF5A9-FF4C-45A7-AC58-A55AF3163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F01E9AF-E429-4DDA-855B-C9CF3270B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C411E2E-F53A-445B-899A-F54411167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183871E-BC0F-416D-AACD-0D38185E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57DD04E-F70E-4F60-996A-2715B47A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DCFC96C-D275-4CC7-8B6F-D21668BF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B0BB583-3B56-4AF5-A5CA-91C9A2AB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9E10805-3771-46C3-8EE0-36C32860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F1D6C95-61CD-4D67-A3A9-9547CA41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05274BD-FF9A-4FA9-90C4-66FD6B70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7E8FAC2-79E2-4CD3-B752-D86FD577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52E33-0B91-4975-B173-47D7B0A9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2B8E593-8DCD-4076-BB7B-861D8C91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0B15796-AF9A-4EF1-9049-8DB8255CE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15502F2-F35E-440C-959E-FABB63746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5569E-180F-4B23-9635-F6F26299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C714A-00CB-407C-82B9-FFB7565A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3B2D-530B-47B9-B83A-C82BC8A1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EBB6D-36A9-4C47-8230-4185D3B3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7B889-FB34-4D10-A6A8-A7DD9CAD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3BD23-96BC-478F-9921-24064335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5C88B-78E7-42F6-923B-93FCB42C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F3C3F-260C-46D4-9036-73A6F19B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FA85A-CDE5-4305-B197-211A868B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E482F-CA27-4878-AAEE-32190065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CD17D-7320-452D-BD0C-F4D1D5FF7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6DDD1-68C4-4F1F-B774-EEE7A663C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892C9-3446-4432-85F5-3014EB306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2C3D-DA48-4F83-A51C-0B3FA441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702A2-077A-417D-807E-39F34C65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07237-A1BA-4B92-8313-43BE36D5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52168-55F8-468A-A681-EDEF5DCE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1A9FC-7727-4FD4-B956-381BD635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227AB-B299-4E50-9FCF-932202DE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60DB3-D70B-4002-B58E-84744710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C9AB1-8A96-4CC6-A8A5-E6A1ED1C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45042-D234-40B1-9560-FF89BEB4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96489-3A11-4132-A1B5-DACCF2C7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FC54A-B72C-4B36-8799-88515CB20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FD56-262D-4A1A-872C-312BC3E2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729B1-338E-417A-BF91-7BD23EE85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0F9B3-B7C6-47A7-B004-BA4383809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3FE00-9322-4D40-8A99-46B56F43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96409-F13C-4543-B8DB-FA2C4D2D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63BE2-F9FB-4EAB-A22B-D4FE9689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2621F-CA86-4A76-98E2-1D219582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AE64E-9B12-4973-B993-8D5B8CD4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45652-FBE8-4050-BEAF-324F0A5C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0A3CD-BE75-4EFB-A97D-C22AA398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13AF9-EDD0-459F-B7E3-08525063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C4DD-64B6-42C4-A079-685397EF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B7CDB-7271-438D-8EA3-889BD1E6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19CA8-155B-4F6C-ABAA-AE31E6640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36233-4E0F-4C5E-9F11-DC1FB1777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E462B-6140-4E56-99D7-34A4C112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901DF-6153-4ED5-981C-B33155DA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71B9E-4C2E-4C41-80A8-CE445681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DB52E-CE23-4BA9-9B05-476F634A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7EE74-44C8-4348-BCE9-13CCADDC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12244-E704-4E32-89D1-FC8D1138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66626-A921-40C6-B5CC-485F972E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7EB5-D9C6-480C-A7E7-B3F819F2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79B2D-C02F-453D-82F3-60DE02F3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6D597-D96A-4986-961F-B381ADDE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BE192-3C5C-4E2A-826A-0BEBBE23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C917C-6AED-4DCA-A7FA-98311538C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1B153-780F-4204-9702-C1E3094C6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5AA21-232B-4FBB-9C67-C8E46A157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74453-FBA9-4843-8473-BDE33A08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6DC24-3B6B-499F-A608-B2E2013A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FA662-2A28-419E-8D14-EF660B54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C2D06-2BF6-4D7B-90EF-81642E84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48E5-0C2A-433E-B577-B271DBC4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7B726-859D-4235-BB8C-F820B148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46507-165F-4115-B472-DAAE0120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667F6-96CD-4694-AB82-1D59BA5F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B5D46-B5E7-4C3B-AF60-04E9D2B3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CE5C9-F79C-4775-B588-DDF7EBEC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B0321-38D4-4930-8525-D826F0CBA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65B31-2744-4552-B000-60819628B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0AB1B-BFAA-4892-A024-F656DE157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BED11-F433-4719-8A2E-0A6EBCAC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1C0F8-CA32-4FD1-BB90-9D4944E3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CA0D-84C2-4261-97CD-671C5A4579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EB7B-61D4-4B23-B8D1-059E8F0046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276A-BA07-45B5-8442-DD3780BC9E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7AFD-B13D-496E-BB83-44537C093F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4D7D-AF8E-4CE0-9B8E-AFDF74B666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1574-8C83-48B7-8B80-7E11E6284A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C72A-2F49-4F49-AAF5-19704BF5A2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75C3-A48E-47A0-8F76-4C3D222085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ABFC-07C1-4D08-8785-043B9EC39D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4932-EF56-45D8-BD4D-BEFBE65323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7C31-4ADC-4C2B-90A5-6D58E1F451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385D-24B5-40DE-ACF4-C9FA801A62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05E4-2A9A-4ADA-ACF4-130B53C87A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AEF5-80BA-42D0-BB9A-CA8942C80C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2530-3B8F-424E-8923-F67BF45928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C344-DE9B-49BA-9FA1-BC49207812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EF6B-3467-422F-890B-64727BB2A0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99E4-D9EE-4986-A6B9-367B2A8B1E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1715-6476-4543-8CA4-30754342C1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E450-6ED0-42C4-8A6C-231264FFE0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2F0E-C80D-41E4-9780-A719C2F061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D53F-19FE-4ADC-9672-A8BD159D4D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3D9C-5C56-489B-B6DC-9CB2242DA2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88DA-C5A1-406E-99B4-124E0DCF74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52A5-06BC-49FD-8E32-7F578BC728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B6C0-FF2F-4F5F-81B1-C57202BFD7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B912-E2B7-427D-9652-8DEB9BBC6F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8535-3385-4082-B057-F239EC7598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5FCA-F667-464A-8338-11B40656F2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8ACA-B73D-4C00-A348-EA8F7D5D21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D044-5E50-429B-AD44-3FA48232D6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3576-DEF9-4370-B216-ADD18EAEE9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390D-361B-4DF0-8E7B-91FDC9FBD9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784E-EE75-4246-9C49-4431E9BF9E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9B99-6767-43CE-BB80-E477458D64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BD99-B62D-4985-A18F-C33FC2FC32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AD23-3EB8-4FB2-9BD9-DE80628B70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1EEF-5E09-4FF2-9D29-5E344E161C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D5B0-1B81-4E5F-8C8F-440B631BC8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746F-AF6A-445B-894F-CBCEB1A834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B417-1DE1-4EB7-BE13-A269D9EDEB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C4F1-1943-4D07-9E48-340D7A2443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C49F-3457-4ED0-A6BD-71937B9232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49AE-FF1B-4976-A9E3-F133ECC3FE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23FB-B290-448D-8F94-115F4E2858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3C57-F98D-49F2-9005-F3E93B8B96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0FF8-106B-418B-A2E5-8800207E88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B6B0-3F9A-41CE-B055-57157468B5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4FEB-FD11-4312-A264-347C4FAD4E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E5CE-691E-42E8-A2E3-3000F6DE8D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2538360" y="2085840"/>
            <a:ext cx="4124520" cy="76212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2" descr=""/>
          <p:cNvPicPr/>
          <p:nvPr/>
        </p:nvPicPr>
        <p:blipFill>
          <a:blip r:embed="rId2"/>
          <a:stretch/>
        </p:blipFill>
        <p:spPr>
          <a:xfrm>
            <a:off x="3100320" y="2967120"/>
            <a:ext cx="2828880" cy="733320"/>
          </a:xfrm>
          <a:prstGeom prst="rect">
            <a:avLst/>
          </a:prstGeom>
          <a:ln w="0">
            <a:noFill/>
          </a:ln>
        </p:spPr>
      </p:pic>
      <p:pic>
        <p:nvPicPr>
          <p:cNvPr id="1434" name="图片 28683" descr=""/>
          <p:cNvPicPr/>
          <p:nvPr/>
        </p:nvPicPr>
        <p:blipFill>
          <a:blip r:embed="rId3"/>
          <a:stretch/>
        </p:blipFill>
        <p:spPr>
          <a:xfrm>
            <a:off x="1476360" y="3860640"/>
            <a:ext cx="62485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图片 116737" descr=""/>
          <p:cNvPicPr/>
          <p:nvPr/>
        </p:nvPicPr>
        <p:blipFill>
          <a:blip r:embed="rId1"/>
          <a:stretch/>
        </p:blipFill>
        <p:spPr>
          <a:xfrm>
            <a:off x="561960" y="1181160"/>
            <a:ext cx="8020080" cy="4495680"/>
          </a:xfrm>
          <a:prstGeom prst="rect">
            <a:avLst/>
          </a:prstGeom>
          <a:ln w="0">
            <a:noFill/>
          </a:ln>
        </p:spPr>
      </p:pic>
      <p:sp>
        <p:nvSpPr>
          <p:cNvPr id="1464" name="矩形 116738"/>
          <p:cNvSpPr/>
          <p:nvPr/>
        </p:nvSpPr>
        <p:spPr>
          <a:xfrm>
            <a:off x="1981080" y="3867120"/>
            <a:ext cx="38862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矩形 116739"/>
          <p:cNvSpPr/>
          <p:nvPr/>
        </p:nvSpPr>
        <p:spPr>
          <a:xfrm>
            <a:off x="8134200" y="4505400"/>
            <a:ext cx="4096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116740"/>
          <p:cNvSpPr/>
          <p:nvPr/>
        </p:nvSpPr>
        <p:spPr>
          <a:xfrm>
            <a:off x="1042920" y="5167440"/>
            <a:ext cx="253368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7" name="图片 115713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02008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图片 114689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410600" cy="5133960"/>
          </a:xfrm>
          <a:prstGeom prst="rect">
            <a:avLst/>
          </a:prstGeom>
          <a:ln w="0">
            <a:noFill/>
          </a:ln>
        </p:spPr>
      </p:pic>
      <p:sp>
        <p:nvSpPr>
          <p:cNvPr id="1469" name="矩形 114690"/>
          <p:cNvSpPr/>
          <p:nvPr/>
        </p:nvSpPr>
        <p:spPr>
          <a:xfrm>
            <a:off x="1895400" y="1514520"/>
            <a:ext cx="112392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114691"/>
          <p:cNvSpPr/>
          <p:nvPr/>
        </p:nvSpPr>
        <p:spPr>
          <a:xfrm>
            <a:off x="5580000" y="2133720"/>
            <a:ext cx="268596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114692"/>
          <p:cNvSpPr/>
          <p:nvPr/>
        </p:nvSpPr>
        <p:spPr>
          <a:xfrm>
            <a:off x="1362240" y="2819520"/>
            <a:ext cx="40932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114693"/>
          <p:cNvSpPr/>
          <p:nvPr/>
        </p:nvSpPr>
        <p:spPr>
          <a:xfrm>
            <a:off x="6486480" y="4149720"/>
            <a:ext cx="17622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114694"/>
          <p:cNvSpPr/>
          <p:nvPr/>
        </p:nvSpPr>
        <p:spPr>
          <a:xfrm>
            <a:off x="3635280" y="5478480"/>
            <a:ext cx="26766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矩形 114695"/>
          <p:cNvSpPr/>
          <p:nvPr/>
        </p:nvSpPr>
        <p:spPr>
          <a:xfrm>
            <a:off x="1297080" y="4816440"/>
            <a:ext cx="40932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5" name="图片 113665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7981920" cy="1047960"/>
          </a:xfrm>
          <a:prstGeom prst="rect">
            <a:avLst/>
          </a:prstGeom>
          <a:ln w="0">
            <a:noFill/>
          </a:ln>
        </p:spPr>
      </p:pic>
      <p:pic>
        <p:nvPicPr>
          <p:cNvPr id="1476" name="图片 113666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6781680" cy="2133720"/>
          </a:xfrm>
          <a:prstGeom prst="rect">
            <a:avLst/>
          </a:prstGeom>
          <a:ln w="0">
            <a:noFill/>
          </a:ln>
        </p:spPr>
      </p:pic>
      <p:pic>
        <p:nvPicPr>
          <p:cNvPr id="1477" name="图片 113667" descr=""/>
          <p:cNvPicPr/>
          <p:nvPr/>
        </p:nvPicPr>
        <p:blipFill>
          <a:blip r:embed="rId3"/>
          <a:stretch/>
        </p:blipFill>
        <p:spPr>
          <a:xfrm>
            <a:off x="971640" y="3573360"/>
            <a:ext cx="7458120" cy="2705040"/>
          </a:xfrm>
          <a:prstGeom prst="rect">
            <a:avLst/>
          </a:prstGeom>
          <a:ln w="0">
            <a:noFill/>
          </a:ln>
        </p:spPr>
      </p:pic>
      <p:sp>
        <p:nvSpPr>
          <p:cNvPr id="1478" name="矩形 113668"/>
          <p:cNvSpPr/>
          <p:nvPr/>
        </p:nvSpPr>
        <p:spPr>
          <a:xfrm>
            <a:off x="7448400" y="3600360"/>
            <a:ext cx="100044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113669"/>
          <p:cNvSpPr/>
          <p:nvPr/>
        </p:nvSpPr>
        <p:spPr>
          <a:xfrm>
            <a:off x="1528920" y="4265640"/>
            <a:ext cx="5200560" cy="5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113670"/>
          <p:cNvSpPr/>
          <p:nvPr/>
        </p:nvSpPr>
        <p:spPr>
          <a:xfrm>
            <a:off x="4788000" y="5084640"/>
            <a:ext cx="36576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113671"/>
          <p:cNvSpPr/>
          <p:nvPr/>
        </p:nvSpPr>
        <p:spPr>
          <a:xfrm>
            <a:off x="1476360" y="5762520"/>
            <a:ext cx="136224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图片 112641" descr=""/>
          <p:cNvPicPr/>
          <p:nvPr/>
        </p:nvPicPr>
        <p:blipFill>
          <a:blip r:embed="rId1"/>
          <a:stretch/>
        </p:blipFill>
        <p:spPr>
          <a:xfrm>
            <a:off x="861840" y="1800360"/>
            <a:ext cx="7420320" cy="3257280"/>
          </a:xfrm>
          <a:prstGeom prst="rect">
            <a:avLst/>
          </a:prstGeom>
          <a:ln w="0">
            <a:noFill/>
          </a:ln>
        </p:spPr>
      </p:pic>
      <p:sp>
        <p:nvSpPr>
          <p:cNvPr id="1483" name="矩形 112642"/>
          <p:cNvSpPr/>
          <p:nvPr/>
        </p:nvSpPr>
        <p:spPr>
          <a:xfrm>
            <a:off x="2771640" y="2476440"/>
            <a:ext cx="542952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矩形 112643"/>
          <p:cNvSpPr/>
          <p:nvPr/>
        </p:nvSpPr>
        <p:spPr>
          <a:xfrm>
            <a:off x="1332000" y="3141720"/>
            <a:ext cx="311472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矩形 112644"/>
          <p:cNvSpPr/>
          <p:nvPr/>
        </p:nvSpPr>
        <p:spPr>
          <a:xfrm>
            <a:off x="6138720" y="3789360"/>
            <a:ext cx="212436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112645"/>
          <p:cNvSpPr/>
          <p:nvPr/>
        </p:nvSpPr>
        <p:spPr>
          <a:xfrm>
            <a:off x="1403280" y="4479840"/>
            <a:ext cx="119052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7" name="图片 111617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458120" cy="3086280"/>
          </a:xfrm>
          <a:prstGeom prst="rect">
            <a:avLst/>
          </a:prstGeom>
          <a:ln w="0">
            <a:noFill/>
          </a:ln>
        </p:spPr>
      </p:pic>
      <p:pic>
        <p:nvPicPr>
          <p:cNvPr id="1488" name="图片 111618" descr=""/>
          <p:cNvPicPr/>
          <p:nvPr/>
        </p:nvPicPr>
        <p:blipFill>
          <a:blip r:embed="rId2"/>
          <a:stretch/>
        </p:blipFill>
        <p:spPr>
          <a:xfrm>
            <a:off x="1297080" y="4594320"/>
            <a:ext cx="6800760" cy="466560"/>
          </a:xfrm>
          <a:prstGeom prst="rect">
            <a:avLst/>
          </a:prstGeom>
          <a:ln w="0">
            <a:noFill/>
          </a:ln>
        </p:spPr>
      </p:pic>
      <p:sp>
        <p:nvSpPr>
          <p:cNvPr id="1489" name="矩形 111619"/>
          <p:cNvSpPr/>
          <p:nvPr/>
        </p:nvSpPr>
        <p:spPr>
          <a:xfrm>
            <a:off x="1609560" y="1971720"/>
            <a:ext cx="48006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111620"/>
          <p:cNvSpPr/>
          <p:nvPr/>
        </p:nvSpPr>
        <p:spPr>
          <a:xfrm>
            <a:off x="2916360" y="3284640"/>
            <a:ext cx="517212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矩形 111621"/>
          <p:cNvSpPr/>
          <p:nvPr/>
        </p:nvSpPr>
        <p:spPr>
          <a:xfrm>
            <a:off x="1258920" y="3933720"/>
            <a:ext cx="3533760" cy="419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矩形 111622"/>
          <p:cNvSpPr/>
          <p:nvPr/>
        </p:nvSpPr>
        <p:spPr>
          <a:xfrm>
            <a:off x="2195640" y="4581360"/>
            <a:ext cx="370512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3" name="图片 110593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7962840" cy="1000440"/>
          </a:xfrm>
          <a:prstGeom prst="rect">
            <a:avLst/>
          </a:prstGeom>
          <a:ln w="0">
            <a:noFill/>
          </a:ln>
        </p:spPr>
      </p:pic>
      <p:pic>
        <p:nvPicPr>
          <p:cNvPr id="1494" name="图片 110594" descr=""/>
          <p:cNvPicPr/>
          <p:nvPr/>
        </p:nvPicPr>
        <p:blipFill>
          <a:blip r:embed="rId2"/>
          <a:stretch/>
        </p:blipFill>
        <p:spPr>
          <a:xfrm>
            <a:off x="1301760" y="1760400"/>
            <a:ext cx="6524640" cy="1675080"/>
          </a:xfrm>
          <a:prstGeom prst="rect">
            <a:avLst/>
          </a:prstGeom>
          <a:ln w="0">
            <a:noFill/>
          </a:ln>
        </p:spPr>
      </p:pic>
      <p:pic>
        <p:nvPicPr>
          <p:cNvPr id="1495" name="图片 110595" descr=""/>
          <p:cNvPicPr/>
          <p:nvPr/>
        </p:nvPicPr>
        <p:blipFill>
          <a:blip r:embed="rId3"/>
          <a:stretch/>
        </p:blipFill>
        <p:spPr>
          <a:xfrm>
            <a:off x="1192320" y="3645000"/>
            <a:ext cx="4886280" cy="399960"/>
          </a:xfrm>
          <a:prstGeom prst="rect">
            <a:avLst/>
          </a:prstGeom>
          <a:ln w="0">
            <a:noFill/>
          </a:ln>
        </p:spPr>
      </p:pic>
      <p:pic>
        <p:nvPicPr>
          <p:cNvPr id="1496" name="图片 110596" descr=""/>
          <p:cNvPicPr/>
          <p:nvPr/>
        </p:nvPicPr>
        <p:blipFill>
          <a:blip r:embed="rId4"/>
          <a:stretch/>
        </p:blipFill>
        <p:spPr>
          <a:xfrm>
            <a:off x="1204920" y="4143240"/>
            <a:ext cx="7362720" cy="2571840"/>
          </a:xfrm>
          <a:prstGeom prst="rect">
            <a:avLst/>
          </a:prstGeom>
          <a:ln w="0">
            <a:noFill/>
          </a:ln>
        </p:spPr>
      </p:pic>
      <p:sp>
        <p:nvSpPr>
          <p:cNvPr id="1497" name="矩形 110597"/>
          <p:cNvSpPr/>
          <p:nvPr/>
        </p:nvSpPr>
        <p:spPr>
          <a:xfrm>
            <a:off x="4457880" y="3581280"/>
            <a:ext cx="10378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矩形 110598"/>
          <p:cNvSpPr/>
          <p:nvPr/>
        </p:nvSpPr>
        <p:spPr>
          <a:xfrm>
            <a:off x="3684600" y="4770360"/>
            <a:ext cx="4390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矩形 110599"/>
          <p:cNvSpPr/>
          <p:nvPr/>
        </p:nvSpPr>
        <p:spPr>
          <a:xfrm>
            <a:off x="2987640" y="6222960"/>
            <a:ext cx="180036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0" name="图片 109570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4191120" cy="943200"/>
          </a:xfrm>
          <a:prstGeom prst="rect">
            <a:avLst/>
          </a:prstGeom>
          <a:ln w="0">
            <a:noFill/>
          </a:ln>
        </p:spPr>
      </p:pic>
      <p:pic>
        <p:nvPicPr>
          <p:cNvPr id="1501" name="图片 109571" descr=""/>
          <p:cNvPicPr/>
          <p:nvPr/>
        </p:nvPicPr>
        <p:blipFill>
          <a:blip r:embed="rId2"/>
          <a:stretch/>
        </p:blipFill>
        <p:spPr>
          <a:xfrm>
            <a:off x="439560" y="1754280"/>
            <a:ext cx="5496120" cy="533160"/>
          </a:xfrm>
          <a:prstGeom prst="rect">
            <a:avLst/>
          </a:prstGeom>
          <a:ln w="0">
            <a:noFill/>
          </a:ln>
        </p:spPr>
      </p:pic>
      <p:pic>
        <p:nvPicPr>
          <p:cNvPr id="1502" name="图片 109572" descr=""/>
          <p:cNvPicPr/>
          <p:nvPr/>
        </p:nvPicPr>
        <p:blipFill>
          <a:blip r:embed="rId3"/>
          <a:stretch/>
        </p:blipFill>
        <p:spPr>
          <a:xfrm>
            <a:off x="447840" y="2367000"/>
            <a:ext cx="7962840" cy="1666800"/>
          </a:xfrm>
          <a:prstGeom prst="rect">
            <a:avLst/>
          </a:prstGeom>
          <a:ln w="0">
            <a:noFill/>
          </a:ln>
        </p:spPr>
      </p:pic>
      <p:pic>
        <p:nvPicPr>
          <p:cNvPr id="1503" name="图片 109573" descr=""/>
          <p:cNvPicPr/>
          <p:nvPr/>
        </p:nvPicPr>
        <p:blipFill>
          <a:blip r:embed="rId4"/>
          <a:stretch/>
        </p:blipFill>
        <p:spPr>
          <a:xfrm>
            <a:off x="960480" y="4278240"/>
            <a:ext cx="7400880" cy="2162160"/>
          </a:xfrm>
          <a:prstGeom prst="rect">
            <a:avLst/>
          </a:prstGeom>
          <a:ln w="0">
            <a:noFill/>
          </a:ln>
        </p:spPr>
      </p:pic>
      <p:sp>
        <p:nvSpPr>
          <p:cNvPr id="1504" name="矩形 109574"/>
          <p:cNvSpPr/>
          <p:nvPr/>
        </p:nvSpPr>
        <p:spPr>
          <a:xfrm>
            <a:off x="7658280" y="2333520"/>
            <a:ext cx="40932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5" name="图片 108545" descr=""/>
          <p:cNvPicPr/>
          <p:nvPr/>
        </p:nvPicPr>
        <p:blipFill>
          <a:blip r:embed="rId1"/>
          <a:stretch/>
        </p:blipFill>
        <p:spPr>
          <a:xfrm>
            <a:off x="581040" y="2228760"/>
            <a:ext cx="7981920" cy="2400480"/>
          </a:xfrm>
          <a:prstGeom prst="rect">
            <a:avLst/>
          </a:prstGeom>
          <a:ln w="0">
            <a:noFill/>
          </a:ln>
        </p:spPr>
      </p:pic>
      <p:sp>
        <p:nvSpPr>
          <p:cNvPr id="1506" name="矩形 108546"/>
          <p:cNvSpPr/>
          <p:nvPr/>
        </p:nvSpPr>
        <p:spPr>
          <a:xfrm>
            <a:off x="7753320" y="2886120"/>
            <a:ext cx="4096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7" name="图片 107522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3066840" cy="533520"/>
          </a:xfrm>
          <a:prstGeom prst="rect">
            <a:avLst/>
          </a:prstGeom>
          <a:ln w="0">
            <a:noFill/>
          </a:ln>
        </p:spPr>
      </p:pic>
      <p:pic>
        <p:nvPicPr>
          <p:cNvPr id="1508" name="图片 107523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7991280" cy="1000080"/>
          </a:xfrm>
          <a:prstGeom prst="rect">
            <a:avLst/>
          </a:prstGeom>
          <a:ln w="0">
            <a:noFill/>
          </a:ln>
        </p:spPr>
      </p:pic>
      <p:pic>
        <p:nvPicPr>
          <p:cNvPr id="1509" name="图片 107524" descr=""/>
          <p:cNvPicPr/>
          <p:nvPr/>
        </p:nvPicPr>
        <p:blipFill>
          <a:blip r:embed="rId3"/>
          <a:stretch/>
        </p:blipFill>
        <p:spPr>
          <a:xfrm>
            <a:off x="1092240" y="2517840"/>
            <a:ext cx="6372360" cy="2381040"/>
          </a:xfrm>
          <a:prstGeom prst="rect">
            <a:avLst/>
          </a:prstGeom>
          <a:ln w="0">
            <a:noFill/>
          </a:ln>
        </p:spPr>
      </p:pic>
      <p:pic>
        <p:nvPicPr>
          <p:cNvPr id="1510" name="图片 107525" descr=""/>
          <p:cNvPicPr/>
          <p:nvPr/>
        </p:nvPicPr>
        <p:blipFill>
          <a:blip r:embed="rId4"/>
          <a:stretch/>
        </p:blipFill>
        <p:spPr>
          <a:xfrm>
            <a:off x="1052640" y="5043600"/>
            <a:ext cx="7343640" cy="1609560"/>
          </a:xfrm>
          <a:prstGeom prst="rect">
            <a:avLst/>
          </a:prstGeom>
          <a:ln w="0">
            <a:noFill/>
          </a:ln>
        </p:spPr>
      </p:pic>
      <p:sp>
        <p:nvSpPr>
          <p:cNvPr id="1511" name="矩形 107526"/>
          <p:cNvSpPr/>
          <p:nvPr/>
        </p:nvSpPr>
        <p:spPr>
          <a:xfrm>
            <a:off x="7667640" y="2057400"/>
            <a:ext cx="42876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124929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077320" cy="5639040"/>
          </a:xfrm>
          <a:prstGeom prst="rect">
            <a:avLst/>
          </a:prstGeom>
          <a:ln w="0">
            <a:noFill/>
          </a:ln>
        </p:spPr>
      </p:pic>
      <p:sp>
        <p:nvSpPr>
          <p:cNvPr id="1436" name="矩形 124930"/>
          <p:cNvSpPr/>
          <p:nvPr/>
        </p:nvSpPr>
        <p:spPr>
          <a:xfrm>
            <a:off x="7867800" y="5334120"/>
            <a:ext cx="40932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7" name="图片 123908" descr=""/>
          <p:cNvPicPr/>
          <p:nvPr/>
        </p:nvPicPr>
        <p:blipFill>
          <a:blip r:embed="rId1"/>
          <a:stretch/>
        </p:blipFill>
        <p:spPr>
          <a:xfrm>
            <a:off x="542880" y="1866960"/>
            <a:ext cx="8058240" cy="3124080"/>
          </a:xfrm>
          <a:prstGeom prst="rect">
            <a:avLst/>
          </a:prstGeom>
          <a:ln w="0">
            <a:noFill/>
          </a:ln>
        </p:spPr>
      </p:pic>
      <p:sp>
        <p:nvSpPr>
          <p:cNvPr id="1438" name="矩形 123909"/>
          <p:cNvSpPr/>
          <p:nvPr/>
        </p:nvSpPr>
        <p:spPr>
          <a:xfrm>
            <a:off x="7812000" y="2565360"/>
            <a:ext cx="4096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9" name="图片 122881" descr=""/>
          <p:cNvPicPr/>
          <p:nvPr/>
        </p:nvPicPr>
        <p:blipFill>
          <a:blip r:embed="rId1"/>
          <a:stretch/>
        </p:blipFill>
        <p:spPr>
          <a:xfrm>
            <a:off x="523800" y="1185840"/>
            <a:ext cx="809640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0" name="图片 121857" descr=""/>
          <p:cNvPicPr/>
          <p:nvPr/>
        </p:nvPicPr>
        <p:blipFill>
          <a:blip r:embed="rId1"/>
          <a:stretch/>
        </p:blipFill>
        <p:spPr>
          <a:xfrm>
            <a:off x="746280" y="733320"/>
            <a:ext cx="7524720" cy="6029280"/>
          </a:xfrm>
          <a:prstGeom prst="rect">
            <a:avLst/>
          </a:prstGeom>
          <a:ln w="0">
            <a:noFill/>
          </a:ln>
        </p:spPr>
      </p:pic>
      <p:sp>
        <p:nvSpPr>
          <p:cNvPr id="1441" name="矩形 121858"/>
          <p:cNvSpPr/>
          <p:nvPr/>
        </p:nvSpPr>
        <p:spPr>
          <a:xfrm>
            <a:off x="5248440" y="790560"/>
            <a:ext cx="2952720" cy="55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1859"/>
          <p:cNvSpPr/>
          <p:nvPr/>
        </p:nvSpPr>
        <p:spPr>
          <a:xfrm>
            <a:off x="1200240" y="1628640"/>
            <a:ext cx="162864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1860"/>
          <p:cNvSpPr/>
          <p:nvPr/>
        </p:nvSpPr>
        <p:spPr>
          <a:xfrm>
            <a:off x="3132000" y="2924280"/>
            <a:ext cx="511524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121861"/>
          <p:cNvSpPr/>
          <p:nvPr/>
        </p:nvSpPr>
        <p:spPr>
          <a:xfrm>
            <a:off x="1082520" y="3597120"/>
            <a:ext cx="71154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矩形 121862"/>
          <p:cNvSpPr/>
          <p:nvPr/>
        </p:nvSpPr>
        <p:spPr>
          <a:xfrm>
            <a:off x="1116000" y="4292640"/>
            <a:ext cx="242892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矩形 121863"/>
          <p:cNvSpPr/>
          <p:nvPr/>
        </p:nvSpPr>
        <p:spPr>
          <a:xfrm>
            <a:off x="6516720" y="5589720"/>
            <a:ext cx="170496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121864"/>
          <p:cNvSpPr/>
          <p:nvPr/>
        </p:nvSpPr>
        <p:spPr>
          <a:xfrm>
            <a:off x="1268280" y="6280200"/>
            <a:ext cx="273384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图片 120833" descr=""/>
          <p:cNvPicPr/>
          <p:nvPr/>
        </p:nvPicPr>
        <p:blipFill>
          <a:blip r:embed="rId1"/>
          <a:stretch/>
        </p:blipFill>
        <p:spPr>
          <a:xfrm>
            <a:off x="547560" y="828720"/>
            <a:ext cx="8010720" cy="2476440"/>
          </a:xfrm>
          <a:prstGeom prst="rect">
            <a:avLst/>
          </a:prstGeom>
          <a:ln w="0">
            <a:noFill/>
          </a:ln>
        </p:spPr>
      </p:pic>
      <p:pic>
        <p:nvPicPr>
          <p:cNvPr id="1449" name="图片 120834" descr=""/>
          <p:cNvPicPr/>
          <p:nvPr/>
        </p:nvPicPr>
        <p:blipFill>
          <a:blip r:embed="rId2"/>
          <a:stretch/>
        </p:blipFill>
        <p:spPr>
          <a:xfrm>
            <a:off x="468360" y="3457440"/>
            <a:ext cx="7972200" cy="1057320"/>
          </a:xfrm>
          <a:prstGeom prst="rect">
            <a:avLst/>
          </a:prstGeom>
          <a:ln w="0">
            <a:noFill/>
          </a:ln>
        </p:spPr>
      </p:pic>
      <p:pic>
        <p:nvPicPr>
          <p:cNvPr id="1450" name="图片 120835" descr=""/>
          <p:cNvPicPr/>
          <p:nvPr/>
        </p:nvPicPr>
        <p:blipFill>
          <a:blip r:embed="rId3"/>
          <a:stretch/>
        </p:blipFill>
        <p:spPr>
          <a:xfrm>
            <a:off x="1908000" y="4221000"/>
            <a:ext cx="5381640" cy="2381400"/>
          </a:xfrm>
          <a:prstGeom prst="rect">
            <a:avLst/>
          </a:prstGeom>
          <a:ln w="0">
            <a:noFill/>
          </a:ln>
        </p:spPr>
      </p:pic>
      <p:sp>
        <p:nvSpPr>
          <p:cNvPr id="1451" name="矩形 120836"/>
          <p:cNvSpPr/>
          <p:nvPr/>
        </p:nvSpPr>
        <p:spPr>
          <a:xfrm>
            <a:off x="7734240" y="4114800"/>
            <a:ext cx="4096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2" name="图片 119809" descr=""/>
          <p:cNvPicPr/>
          <p:nvPr/>
        </p:nvPicPr>
        <p:blipFill>
          <a:blip r:embed="rId1"/>
          <a:stretch/>
        </p:blipFill>
        <p:spPr>
          <a:xfrm>
            <a:off x="571680" y="1833480"/>
            <a:ext cx="8001000" cy="3191040"/>
          </a:xfrm>
          <a:prstGeom prst="rect">
            <a:avLst/>
          </a:prstGeom>
          <a:ln w="0">
            <a:noFill/>
          </a:ln>
        </p:spPr>
      </p:pic>
      <p:sp>
        <p:nvSpPr>
          <p:cNvPr id="1453" name="矩形 119810"/>
          <p:cNvSpPr/>
          <p:nvPr/>
        </p:nvSpPr>
        <p:spPr>
          <a:xfrm>
            <a:off x="7867800" y="1876320"/>
            <a:ext cx="40932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矩形 119811"/>
          <p:cNvSpPr/>
          <p:nvPr/>
        </p:nvSpPr>
        <p:spPr>
          <a:xfrm>
            <a:off x="1258920" y="4533840"/>
            <a:ext cx="94284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图片 118789" descr=""/>
          <p:cNvPicPr/>
          <p:nvPr/>
        </p:nvPicPr>
        <p:blipFill>
          <a:blip r:embed="rId1"/>
          <a:stretch/>
        </p:blipFill>
        <p:spPr>
          <a:xfrm>
            <a:off x="533520" y="1790640"/>
            <a:ext cx="8076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6" name="图片 117761" descr=""/>
          <p:cNvPicPr/>
          <p:nvPr/>
        </p:nvPicPr>
        <p:blipFill>
          <a:blip r:embed="rId1"/>
          <a:stretch/>
        </p:blipFill>
        <p:spPr>
          <a:xfrm>
            <a:off x="477720" y="717480"/>
            <a:ext cx="8001000" cy="1009800"/>
          </a:xfrm>
          <a:prstGeom prst="rect">
            <a:avLst/>
          </a:prstGeom>
          <a:ln w="0">
            <a:noFill/>
          </a:ln>
        </p:spPr>
      </p:pic>
      <p:pic>
        <p:nvPicPr>
          <p:cNvPr id="1457" name="图片 117762" descr=""/>
          <p:cNvPicPr/>
          <p:nvPr/>
        </p:nvPicPr>
        <p:blipFill>
          <a:blip r:embed="rId2"/>
          <a:stretch/>
        </p:blipFill>
        <p:spPr>
          <a:xfrm>
            <a:off x="885960" y="1982880"/>
            <a:ext cx="5943600" cy="2361960"/>
          </a:xfrm>
          <a:prstGeom prst="rect">
            <a:avLst/>
          </a:prstGeom>
          <a:ln w="0">
            <a:noFill/>
          </a:ln>
        </p:spPr>
      </p:pic>
      <p:pic>
        <p:nvPicPr>
          <p:cNvPr id="1458" name="图片 117763" descr=""/>
          <p:cNvPicPr/>
          <p:nvPr/>
        </p:nvPicPr>
        <p:blipFill>
          <a:blip r:embed="rId3"/>
          <a:stretch/>
        </p:blipFill>
        <p:spPr>
          <a:xfrm>
            <a:off x="452520" y="4543560"/>
            <a:ext cx="8039160" cy="1028520"/>
          </a:xfrm>
          <a:prstGeom prst="rect">
            <a:avLst/>
          </a:prstGeom>
          <a:ln w="0">
            <a:noFill/>
          </a:ln>
        </p:spPr>
      </p:pic>
      <p:pic>
        <p:nvPicPr>
          <p:cNvPr id="1459" name="图片 117764" descr=""/>
          <p:cNvPicPr/>
          <p:nvPr/>
        </p:nvPicPr>
        <p:blipFill>
          <a:blip r:embed="rId4"/>
          <a:stretch/>
        </p:blipFill>
        <p:spPr>
          <a:xfrm>
            <a:off x="938160" y="5689440"/>
            <a:ext cx="6477120" cy="1028880"/>
          </a:xfrm>
          <a:prstGeom prst="rect">
            <a:avLst/>
          </a:prstGeom>
          <a:ln w="0">
            <a:noFill/>
          </a:ln>
        </p:spPr>
      </p:pic>
      <p:pic>
        <p:nvPicPr>
          <p:cNvPr id="1460" name="图片 117765" descr=""/>
          <p:cNvPicPr/>
          <p:nvPr/>
        </p:nvPicPr>
        <p:blipFill>
          <a:blip r:embed="rId5"/>
          <a:stretch/>
        </p:blipFill>
        <p:spPr>
          <a:xfrm>
            <a:off x="7343640" y="1844640"/>
            <a:ext cx="1047960" cy="380880"/>
          </a:xfrm>
          <a:prstGeom prst="rect">
            <a:avLst/>
          </a:prstGeom>
          <a:ln w="0">
            <a:noFill/>
          </a:ln>
        </p:spPr>
      </p:pic>
      <p:sp>
        <p:nvSpPr>
          <p:cNvPr id="1461" name="矩形 117766"/>
          <p:cNvSpPr/>
          <p:nvPr/>
        </p:nvSpPr>
        <p:spPr>
          <a:xfrm>
            <a:off x="7667640" y="1844640"/>
            <a:ext cx="4096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117767"/>
          <p:cNvSpPr/>
          <p:nvPr/>
        </p:nvSpPr>
        <p:spPr>
          <a:xfrm>
            <a:off x="7740720" y="5157720"/>
            <a:ext cx="4096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9:21:38Z</dcterms:modified>
  <cp:revision>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